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1286-EB0D-48B5-AFD4-8DD334BA5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766E-245F-48D4-82E6-79DB1FC0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E298-B516-4F02-9EB4-96EC3B399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BD1C-49E4-486B-87BA-C501E89BE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0D6E-79C4-4DE2-9248-E3D8DD962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5BED5-42E9-434C-9C75-D64ED1F0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969CE-44F5-4AC0-97A2-D1849C5A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5BDE6-F5B4-47A2-951B-82DD1744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12901-51FB-4C4E-BBE8-DB092BF7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DDA60-2145-4D6B-AE1B-08D689A5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D7DC-3AE4-4BF8-BF5E-DEA9E870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629C-7300-4FB2-852C-83748DA4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BEA3-7A9B-487B-A3DB-7991FE2D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7847B-E4EA-4F28-8334-7E64290F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2F7E2-24A3-400E-8395-05FD87A3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66C8B-9A67-46A7-BD5C-DB2072BFA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A89AA-F9D8-4C24-B5C5-59C133B96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D60D-7A73-4F13-8727-629B8CC9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BA0A-EA68-4B2E-B3B0-AAA22F99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3F76-4EA5-459D-9D32-AD836952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9329-B9C9-4F17-91F0-7978261D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9D85-BCB0-4EA9-91B7-9EE92557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D30A-60DA-4C0B-A290-F5374DAF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DE7F-96D7-4ABF-BE69-D55BC0E4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788E-C4E6-489E-8E6F-5B16886147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E368-1BB7-47BB-A7FE-93091F2F00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Wenceslas_Hollar_-_William_Oughtred.jpg?uselang=ru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3395520" y="1438200"/>
            <a:ext cx="5615280" cy="15368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3499920" y="3214800"/>
            <a:ext cx="51865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зентацию подготовил  ученик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4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Киселев Сереж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Классный руководит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Киселева Н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3429000" y="571680"/>
            <a:ext cx="5214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«Русско-Устьинская основная общеобразовательная школ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оугольник 5" descr=""/>
          <p:cNvPicPr/>
          <p:nvPr/>
        </p:nvPicPr>
        <p:blipFill>
          <a:blip r:embed="rId2"/>
          <a:stretch/>
        </p:blipFill>
        <p:spPr>
          <a:xfrm>
            <a:off x="622440" y="2517840"/>
            <a:ext cx="83455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1499760" y="1500120"/>
            <a:ext cx="71866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i.allday.ru/uploads/posts/2009-08/thumbs/1250058141_12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ccboe.net/Teachers/Durham_Sharon/images/918F9422010B4BB0B160956D6B9D4E34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utkonos.ru/images/it/027/008/006/1238197P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caringbahlearningcentre.com.au/assets/images/calc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3" descr=""/>
          <p:cNvPicPr/>
          <p:nvPr/>
        </p:nvPicPr>
        <p:blipFill>
          <a:blip r:embed="rId2"/>
          <a:stretch/>
        </p:blipFill>
        <p:spPr>
          <a:xfrm>
            <a:off x="642960" y="1428840"/>
            <a:ext cx="728640" cy="10000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4" descr=""/>
          <p:cNvPicPr/>
          <p:nvPr/>
        </p:nvPicPr>
        <p:blipFill>
          <a:blip r:embed="rId3"/>
          <a:stretch/>
        </p:blipFill>
        <p:spPr>
          <a:xfrm>
            <a:off x="428760" y="2857680"/>
            <a:ext cx="1011240" cy="996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d:\Мои документы\Мои рисунки\+14448-800x800.jpg"/>
          <p:cNvPicPr/>
          <p:nvPr/>
        </p:nvPicPr>
        <p:blipFill>
          <a:blip r:embed="rId4"/>
          <a:stretch/>
        </p:blipFill>
        <p:spPr>
          <a:xfrm>
            <a:off x="133200" y="4138560"/>
            <a:ext cx="14875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786120" y="714240"/>
            <a:ext cx="4686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Изобретателями первых логарифмических линеек являются англичане — математик и педагог Уильям Отред и учитель математики Ричард Деламей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3" descr="http://t0.gstatic.com/images?q=tbn:ANd9GcRNFxSjRGNPJxPs-udEMvAzkXnjaXJhN8TtWeUFiiCWF6FyUn4cm1apfuE"/>
          <p:cNvPicPr/>
          <p:nvPr/>
        </p:nvPicPr>
        <p:blipFill>
          <a:blip r:embed="rId1"/>
          <a:stretch/>
        </p:blipFill>
        <p:spPr>
          <a:xfrm>
            <a:off x="928800" y="785880"/>
            <a:ext cx="2000160" cy="22860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4" descr="http://t0.gstatic.com/images?q=tbn:ANd9GcRJSKKI3xjpe2q2TQZqljHngNq5pus390693bProlw4SAfGQ-mbKajA7oY"/>
          <p:cNvPicPr/>
          <p:nvPr/>
        </p:nvPicPr>
        <p:blipFill>
          <a:blip r:embed="rId2"/>
          <a:stretch/>
        </p:blipFill>
        <p:spPr>
          <a:xfrm>
            <a:off x="928800" y="3429000"/>
            <a:ext cx="19288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71320" y="3285720"/>
            <a:ext cx="797220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Летом 1630 года у Отреда гостил его ученик и друг, лондонский учитель математики Уильям Форстер. Коллеги разговаривали о математике и, как бы сказали сегодня, о методике ее преподавания. В одной из бесед Отред критически отозвался о шкале Гюнтера, отметив, что манипулирование двумя циркулями отнимает много времени и дает низкую точ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3" descr="http://t3.gstatic.com/images?q=tbn:ANd9GcS0YvEh1L5Fc-oKo8Aic8riWad8aS-KekpIk-JxvfdZW6xElLsYl7MQ-CY"/>
          <p:cNvPicPr/>
          <p:nvPr/>
        </p:nvPicPr>
        <p:blipFill>
          <a:blip r:embed="rId1"/>
          <a:stretch/>
        </p:blipFill>
        <p:spPr>
          <a:xfrm>
            <a:off x="1714680" y="500040"/>
            <a:ext cx="4786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714480" y="642960"/>
            <a:ext cx="4971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Валлиец Эдмунд Гюнтер построил логарифмическую шкалу, которая использовалась вместе с двумя циркулями-измерителями. Шкала Гюнтера представляла собой отрезок с делениями, соответствующими логарифмам чисел или тригонометрических величин. (Несколько таких шкал располагались на деревянной или медной пластинке параллельно друг другу.) С помощью циркулей-измерителей определяли сумму или разность длин отрезков шкалы, что в соответствии со свойствами логарифмов позволяло находить произведение или част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3" descr="Wenceslas Hollar - William Oughtre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28800" y="785880"/>
            <a:ext cx="28573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214520" y="1071720"/>
            <a:ext cx="442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Первая линейка Отреда имела две логарифмические шкалы, одна из которых могла смещаться относительно другой, неподвиж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Второй инструмент представлял собой кольцо, внутри которого вращался на оси кру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На круге (снаружи) и внутри кольца были изображены “свернутые в окружность” логарифмические шкал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Обе линейки позволяли обходиться без циркулей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" descr=" Линейка Уатта  "/>
          <p:cNvPicPr/>
          <p:nvPr/>
        </p:nvPicPr>
        <p:blipFill>
          <a:blip r:embed="rId1"/>
          <a:stretch/>
        </p:blipFill>
        <p:spPr>
          <a:xfrm>
            <a:off x="571680" y="1571760"/>
            <a:ext cx="3951000" cy="8730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4" descr="http://elcode-blog.ru/wp-content/uploads/2011/11/025-150x150.jpg"/>
          <p:cNvPicPr/>
          <p:nvPr/>
        </p:nvPicPr>
        <p:blipFill>
          <a:blip r:embed="rId2"/>
          <a:stretch/>
        </p:blipFill>
        <p:spPr>
          <a:xfrm>
            <a:off x="1071720" y="3214800"/>
            <a:ext cx="2500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142880" y="785880"/>
            <a:ext cx="4472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о всей видимости, Уильям Отред и Ричард Деламейн изобрели логарифмическую линейку независимо друг от друга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А в 1654 году англичанин Роберт Биссакер предложил конструкцию прямоугольной логарифмической линейки, общий вид которой сохранился до нашего времени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3" descr=" Линейка Уатта  "/>
          <p:cNvPicPr/>
          <p:nvPr/>
        </p:nvPicPr>
        <p:blipFill>
          <a:blip r:embed="rId1"/>
          <a:stretch/>
        </p:blipFill>
        <p:spPr>
          <a:xfrm>
            <a:off x="1343160" y="693720"/>
            <a:ext cx="18716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493560" y="2066760"/>
            <a:ext cx="82425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Содержимое 3" descr=""/>
          <p:cNvPicPr/>
          <p:nvPr/>
        </p:nvPicPr>
        <p:blipFill>
          <a:blip r:embed="rId1"/>
          <a:stretch/>
        </p:blipFill>
        <p:spPr>
          <a:xfrm>
            <a:off x="857160" y="428760"/>
            <a:ext cx="3357720" cy="2071440"/>
          </a:xfrm>
          <a:prstGeom prst="rect">
            <a:avLst/>
          </a:prstGeom>
          <a:ln w="0">
            <a:noFill/>
          </a:ln>
        </p:spPr>
      </p:pic>
      <p:sp>
        <p:nvSpPr>
          <p:cNvPr id="99" name="TextBox 10"/>
          <p:cNvSpPr/>
          <p:nvPr/>
        </p:nvSpPr>
        <p:spPr>
          <a:xfrm>
            <a:off x="1428840" y="242892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еталлическая линей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11" descr=""/>
          <p:cNvPicPr/>
          <p:nvPr/>
        </p:nvPicPr>
        <p:blipFill>
          <a:blip r:embed="rId2"/>
          <a:stretch/>
        </p:blipFill>
        <p:spPr>
          <a:xfrm>
            <a:off x="4643280" y="428760"/>
            <a:ext cx="3143520" cy="214308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4"/>
          <p:cNvSpPr/>
          <p:nvPr/>
        </p:nvSpPr>
        <p:spPr>
          <a:xfrm>
            <a:off x="4725360" y="2643120"/>
            <a:ext cx="30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еталлическая столя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Содержимое 3" descr=""/>
          <p:cNvPicPr/>
          <p:nvPr/>
        </p:nvPicPr>
        <p:blipFill>
          <a:blip r:embed="rId3"/>
          <a:stretch/>
        </p:blipFill>
        <p:spPr>
          <a:xfrm>
            <a:off x="928800" y="3286080"/>
            <a:ext cx="3000240" cy="214308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6"/>
          <p:cNvSpPr/>
          <p:nvPr/>
        </p:nvSpPr>
        <p:spPr>
          <a:xfrm>
            <a:off x="1006200" y="5429160"/>
            <a:ext cx="27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Транспортир с линей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7" descr=""/>
          <p:cNvPicPr/>
          <p:nvPr/>
        </p:nvPicPr>
        <p:blipFill>
          <a:blip r:embed="rId4"/>
          <a:stretch/>
        </p:blipFill>
        <p:spPr>
          <a:xfrm>
            <a:off x="4714920" y="3357720"/>
            <a:ext cx="3000240" cy="214308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8"/>
          <p:cNvSpPr/>
          <p:nvPr/>
        </p:nvSpPr>
        <p:spPr>
          <a:xfrm>
            <a:off x="4000680" y="5357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еталлический комбинированный уго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Содержимое 3" descr=""/>
          <p:cNvPicPr/>
          <p:nvPr/>
        </p:nvPicPr>
        <p:blipFill>
          <a:blip r:embed="rId1"/>
          <a:stretch/>
        </p:blipFill>
        <p:spPr>
          <a:xfrm>
            <a:off x="1000080" y="571680"/>
            <a:ext cx="2428920" cy="200016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4"/>
          <p:cNvSpPr/>
          <p:nvPr/>
        </p:nvSpPr>
        <p:spPr>
          <a:xfrm>
            <a:off x="414720" y="2571840"/>
            <a:ext cx="33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Линейка Стамм инерцион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5" descr=""/>
          <p:cNvPicPr/>
          <p:nvPr/>
        </p:nvPicPr>
        <p:blipFill>
          <a:blip r:embed="rId2"/>
          <a:stretch/>
        </p:blipFill>
        <p:spPr>
          <a:xfrm>
            <a:off x="4643280" y="642960"/>
            <a:ext cx="2714760" cy="185724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6"/>
          <p:cNvSpPr/>
          <p:nvPr/>
        </p:nvSpPr>
        <p:spPr>
          <a:xfrm>
            <a:off x="4294800" y="2571840"/>
            <a:ext cx="347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етр складной металл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7" descr=""/>
          <p:cNvPicPr/>
          <p:nvPr/>
        </p:nvPicPr>
        <p:blipFill>
          <a:blip r:embed="rId3"/>
          <a:stretch/>
        </p:blipFill>
        <p:spPr>
          <a:xfrm>
            <a:off x="3286080" y="3929040"/>
            <a:ext cx="2571840" cy="114300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8"/>
          <p:cNvSpPr/>
          <p:nvPr/>
        </p:nvSpPr>
        <p:spPr>
          <a:xfrm>
            <a:off x="3367440" y="5143680"/>
            <a:ext cx="24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ерительное колес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03:24:12Z</dcterms:created>
  <dc:creator>Comp</dc:creator>
  <dc:description/>
  <dc:language>en-US</dc:language>
  <cp:lastModifiedBy>Admin</cp:lastModifiedBy>
  <dcterms:modified xsi:type="dcterms:W3CDTF">2014-11-30T03:59:26Z</dcterms:modified>
  <cp:revision>14</cp:revision>
  <dc:subject/>
  <dc:title>Слайд 1</dc:title>
</cp:coreProperties>
</file>